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8F6-E591-49FA-827E-760D4AC9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8C6-B3B6-4692-BCEE-6D5C98B7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1A6-1B44-4B0E-9B64-486EC83E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8A1-CE98-48D2-8F4C-1B47E904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E6C-6047-45DA-979D-2D40485E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6ED-7EBB-4CCE-808B-F0C1D944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1F1-2F82-45AB-836F-0AC12E8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CC4-D0DC-49AD-B3B1-DDAD5A5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57B-E490-4693-B89E-562DEC3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DDE-A51F-41A0-8004-F78DA1E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A97-1360-48F3-825D-A2C153CB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4AB-CCAA-4BFA-8980-C37B847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927D-95B7-45BF-9963-4084CD00CC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3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Visual Analytics for Big Data</a:t>
            </a:r>
            <a:br>
              <a:rPr sz="2300"/>
            </a:br>
            <a:r>
              <a:rPr b="1" i="1" lang="en-US" sz="2300" spc="-1" strike="noStrike">
                <a:solidFill>
                  <a:srgbClr val="7575d1"/>
                </a:solidFill>
                <a:latin typeface="Trebuchet MS"/>
              </a:rPr>
              <a:t>0. Course set-up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4"/>
          <p:cNvSpPr/>
          <p:nvPr/>
        </p:nvSpPr>
        <p:spPr>
          <a:xfrm>
            <a:off x="2894400" y="526896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dr. Alexandru (Alex) Te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2451600" y="5800680"/>
            <a:ext cx="423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Mathematics and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Groningen, the Nether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025"/>
          <p:cNvGraphicFramePr/>
          <p:nvPr/>
        </p:nvGraphicFramePr>
        <p:xfrm>
          <a:off x="2325600" y="2987640"/>
          <a:ext cx="1373400" cy="9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0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5600" y="2987640"/>
                    <a:ext cx="137340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026"/>
          <p:cNvGraphicFramePr/>
          <p:nvPr/>
        </p:nvGraphicFramePr>
        <p:xfrm>
          <a:off x="3994200" y="2004840"/>
          <a:ext cx="94140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10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4200" y="2004840"/>
                    <a:ext cx="9414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027"/>
          <p:cNvGraphicFramePr/>
          <p:nvPr/>
        </p:nvGraphicFramePr>
        <p:xfrm>
          <a:off x="3013200" y="2004840"/>
          <a:ext cx="93168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10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13200" y="2004840"/>
                    <a:ext cx="9316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028"/>
          <p:cNvGraphicFramePr/>
          <p:nvPr/>
        </p:nvGraphicFramePr>
        <p:xfrm>
          <a:off x="1981080" y="2004840"/>
          <a:ext cx="982800" cy="93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Object 10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004840"/>
                    <a:ext cx="9828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11" descr="SolidSX-multiple-views-on-PaintDotNet-large.jpeg"/>
          <p:cNvPicPr/>
          <p:nvPr/>
        </p:nvPicPr>
        <p:blipFill>
          <a:blip r:embed="rId10"/>
          <a:stretch/>
        </p:blipFill>
        <p:spPr>
          <a:xfrm>
            <a:off x="3276720" y="3973680"/>
            <a:ext cx="1179360" cy="8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2"/>
          <p:cNvGraphicFramePr/>
          <p:nvPr/>
        </p:nvGraphicFramePr>
        <p:xfrm>
          <a:off x="6049800" y="2011320"/>
          <a:ext cx="932040" cy="93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9800" y="2011320"/>
                    <a:ext cx="932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52" descr=""/>
          <p:cNvPicPr/>
          <p:nvPr/>
        </p:nvPicPr>
        <p:blipFill>
          <a:blip r:embed="rId13"/>
          <a:stretch/>
        </p:blipFill>
        <p:spPr>
          <a:xfrm>
            <a:off x="4500720" y="3960720"/>
            <a:ext cx="1228680" cy="8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3"/>
          <p:cNvGraphicFramePr/>
          <p:nvPr/>
        </p:nvGraphicFramePr>
        <p:xfrm>
          <a:off x="5137200" y="2982960"/>
          <a:ext cx="1655640" cy="97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37200" y="2982960"/>
                    <a:ext cx="1655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Picture 56" descr=""/>
          <p:cNvPicPr/>
          <p:nvPr/>
        </p:nvPicPr>
        <p:blipFill>
          <a:blip r:embed="rId16"/>
          <a:stretch/>
        </p:blipFill>
        <p:spPr>
          <a:xfrm>
            <a:off x="5003640" y="2000160"/>
            <a:ext cx="99072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4"/>
          <p:cNvGraphicFramePr/>
          <p:nvPr/>
        </p:nvGraphicFramePr>
        <p:xfrm>
          <a:off x="3733920" y="2982960"/>
          <a:ext cx="1358640" cy="94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3920" y="2982960"/>
                    <a:ext cx="13586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4"/>
          <p:cNvSpPr/>
          <p:nvPr/>
        </p:nvSpPr>
        <p:spPr>
          <a:xfrm>
            <a:off x="173160" y="380880"/>
            <a:ext cx="8458200" cy="59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ho am I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essor in data/information visualization (since 2007) at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Mathematics and Natural Sciences, Univ. of Groningen,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Research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dimensional information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/network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scale visualization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Teaching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tific visualization (www.cs.rug.nl/svcg/V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data visualization (www.cs.rug.nl/svcg/PracticalDataV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visualization (www.cs.rug.nl/svcg/SoftV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ization book (www.cs.rug.nl/svcg/DataVisualizationBo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More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cs.rug.nl/~al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c.telea@rug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8070840" y="4727520"/>
            <a:ext cx="920880" cy="1204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6383160" y="5943600"/>
            <a:ext cx="291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Visualization: Principles and Practic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. K. Peters (2008), CRC Press (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3"/>
          <a:stretch/>
        </p:blipFill>
        <p:spPr>
          <a:xfrm>
            <a:off x="7005600" y="4727520"/>
            <a:ext cx="984240" cy="121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tretch/>
        </p:blipFill>
        <p:spPr>
          <a:xfrm>
            <a:off x="7696080" y="380880"/>
            <a:ext cx="1187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457200" y="655560"/>
            <a:ext cx="84582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ourse 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will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analy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nformation visualization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dge and impro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quality of a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r own visualizations in a principled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se visualizations to analyze and explore bi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Assignment 1 –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 problem + existing visualization solution in the visual analytics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the problem, questions, proposed design,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ine limitations, propose improvements, defen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Assignment 2 –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al-world very large ‘big data’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t several visualizations that answer a set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the answers and your design, and defen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4"/>
          <p:cNvSpPr/>
          <p:nvPr/>
        </p:nvSpPr>
        <p:spPr>
          <a:xfrm>
            <a:off x="457200" y="655560"/>
            <a:ext cx="845820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whom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is this cours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der)graduate (MSc/PhD) students and practitioners, interes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 analytics solutions to present thei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dge/impro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quality of a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hat you need to know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before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linear algebra, calculus, statistics data structures and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computer graphics/scientific visualization is helpful but not mandato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hat you will know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after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most important visual analytics/infovis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kes a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go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vis application (design, specificity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pitf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nfovis design (and how to avoid th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visually analyze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bi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lections of variou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0" lang="en-US" sz="1800" spc="-1" strike="noStrike">
                <a:solidFill>
                  <a:srgbClr val="7575d1"/>
                </a:solidFill>
                <a:latin typeface="Arial"/>
              </a:rPr>
              <a:t>stand 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your work by creating effective visual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4"/>
          <p:cNvSpPr/>
          <p:nvPr/>
        </p:nvSpPr>
        <p:spPr>
          <a:xfrm>
            <a:off x="228600" y="228600"/>
            <a:ext cx="845820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ourse Overview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1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roduction to visual analytics  and information visual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2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represen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3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ual analytics basics: using Table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4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ual percep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ual encoding of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6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ced visual analytics with Tablea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7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ual analytics techniqu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8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sual analytics application desig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0"/>
                </a:solidFill>
                <a:latin typeface="Arial"/>
              </a:rPr>
              <a:t>Module 9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d-to-end case stu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24200" y="6400800"/>
            <a:ext cx="44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 exact 1-to-1 mapping of modules to lect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1"/>
          <p:cNvSpPr/>
          <p:nvPr/>
        </p:nvSpPr>
        <p:spPr>
          <a:xfrm>
            <a:off x="7696080" y="1177920"/>
            <a:ext cx="304920" cy="4876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7575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 rot="16200000">
            <a:off x="7003440" y="3418200"/>
            <a:ext cx="21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bottom-up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7931160" y="10666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959960" y="57913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575d1"/>
                </a:solidFill>
                <a:latin typeface="Arial"/>
              </a:rPr>
              <a:t>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4"/>
          <p:cNvSpPr/>
          <p:nvPr/>
        </p:nvSpPr>
        <p:spPr>
          <a:xfrm>
            <a:off x="457200" y="457200"/>
            <a:ext cx="845820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description of all aspects covered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 in 7 modules (see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 to sup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 (example/problem 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several selected course topics in great(er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to understand the core material from 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set of related work (articles, books, studies, links to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arts required (don’t need to read/understand it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also for future work in specialized dir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specification (what you need to 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by-step execution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vailable online: </a:t>
            </a: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www.cs.rug.nl/svcg/Visual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4"/>
          <p:cNvSpPr/>
          <p:nvPr/>
        </p:nvSpPr>
        <p:spPr>
          <a:xfrm>
            <a:off x="457200" y="304920"/>
            <a:ext cx="845820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ay of work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over about 70-80% of the cours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: self-study of articles, books,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interactive: ask if you don’t understand 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Self study/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 1: pick a visual analytics solution from the suggested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assignments incrementally during the lecture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incremental results to lecturer for comments/guidance/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it all on the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Feedback/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y m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mental report versions during the course (ideally every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 about unclear points, blocker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y mail/one-to-one discussions/during le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feedback about your ow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feedback about most commonly encountered problems (le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7569360" y="6443640"/>
            <a:ext cx="1361880" cy="379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28600" y="6380280"/>
            <a:ext cx="8686800" cy="460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6129720" y="648828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ww.cs.rug.nl/sv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4"/>
          <p:cNvSpPr/>
          <p:nvPr/>
        </p:nvSpPr>
        <p:spPr>
          <a:xfrm>
            <a:off x="457200" y="304920"/>
            <a:ext cx="8458200" cy="67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Points to reme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e proac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present, ask questions when you don’t understand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t prog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o rece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eed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a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there’s no ‘wrong’ question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e critical/specific (assignment execution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problem/solution in as man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/no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 from the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be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possible (terms, questions, solution details, m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dismi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 don’t know how to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the issue(s), explain why they ar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 possible solutions (or why you don’t have on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y solutions learned during course don’t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 references to all used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report length (for each assignment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</a:rPr>
              <a:t>Be crea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: tr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ses (no single perfect solution ex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/combine learned material, propose new (crazy) solu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0"/>
                </a:solidFill>
                <a:latin typeface="Trebuchet MS"/>
              </a:rPr>
              <a:t>Course based on…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41200" y="693720"/>
            <a:ext cx="775656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Data Visualization – Principles and practic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A. Telea, CRC Press, 201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scientific visual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implementers (programmers) and researc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Visualization Analysis and Design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T. Munzner, CRC Press, 201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information visual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implementers (programmers) and researc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Information Visualization: Perception for Design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C. Ware, Morgan Kaufman, 20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information visualization, inf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designers and end-user scient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The Visual Display of Quantitative Information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. Tufte, Graphics Press, 200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information visualization, inf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designers and graphics art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Show Me the Numbers – Designing Tables and Graph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S. Few, Analytic Press, 20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information visualization, inf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designers and communication scient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575d1"/>
                </a:solidFill>
                <a:latin typeface="Arial"/>
              </a:rPr>
              <a:t>Data Visualization: A Successful Design Proces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. Kirk, Packt Publishing, 20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focus: information visualization, info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visualization designers and communication scient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8153280" y="4419720"/>
            <a:ext cx="762120" cy="98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178840" y="3489480"/>
            <a:ext cx="736560" cy="93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8197920" y="259092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4"/>
          <a:stretch/>
        </p:blipFill>
        <p:spPr>
          <a:xfrm>
            <a:off x="8185320" y="1600200"/>
            <a:ext cx="730080" cy="91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5"/>
          <a:stretch/>
        </p:blipFill>
        <p:spPr>
          <a:xfrm>
            <a:off x="8175600" y="642960"/>
            <a:ext cx="722160" cy="89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6"/>
          <a:stretch/>
        </p:blipFill>
        <p:spPr>
          <a:xfrm>
            <a:off x="8174160" y="5430960"/>
            <a:ext cx="74124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228600" y="63244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URL: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www.cs.rug.nl/~al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mail: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a.c.telea@rug.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22:49Z</dcterms:created>
  <dc:creator>Ozan</dc:creator>
  <dc:description/>
  <dc:language>en-US</dc:language>
  <cp:lastModifiedBy>Alex Telea</cp:lastModifiedBy>
  <dcterms:modified xsi:type="dcterms:W3CDTF">2017-08-31T17:53:27Z</dcterms:modified>
  <cp:revision>308</cp:revision>
  <dc:subject/>
  <dc:title>Image-Based Edge Bundles: Simplified Visualization of Large Graphs  A. Telea and O. Ersoy </dc:title>
</cp:coreProperties>
</file>